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18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ADE577-EEB3-444B-9C31-6012869836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798639-A287-41F2-94C5-9DB0116ACF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B124CD-F890-4D0B-8501-07ACC288EA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 answer: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s: ability to read and interpret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7419EA-F3EE-45B8-8BC1-566BCA50BB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 answer: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s: graphical understanding of line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1A8248-4150-4CBB-BC89-F478A1AB75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 answer: Red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s: graphical understanding of sl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0B9D40-4BE3-42AB-B9E6-8C4D195E25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 answer: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s: laws of expon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E8B343-9AB2-4482-B996-FFA8379AE9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 answer: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s: preliminary understanding of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6E0132-CB88-4D21-BF1B-B319D5561C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 answer: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s: tabular test for linearity and exponent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3B52BD-9052-490E-B382-93969F163C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 answer: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s: use of units, conversion between growth factors and growth r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66FE60-E7DF-4CA3-84AF-788647AA5D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 answer: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s: graphical understanding of base and initial value in exponent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CD49FA-B65A-48B0-85FC-318CE75538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 answer: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s: understanding of half life and exponential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 answer: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s: understanding of half life and exponential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EAC0AC-4FCF-473B-AEC7-00A5C29A75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0AACC6-EA61-45A6-9738-2D634460D5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 answer: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s: laws of common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4F66F3-BC98-432B-868E-87808B2304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 answer: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s: understanding of the interpretation of the average rate of ch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 answer: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s: laws of exponential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849A40-EAFC-4382-82A6-A01BDFB1BC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0E36D0-AD02-4BD9-BC7E-919F4547F3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 answer: all three graphs have the same sl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s: importance of scale in determining sl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41CA4F-4B1F-40B9-B352-35F8298815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 answer: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s: graphical understanding of sl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04BB69-370E-493B-8202-6134EECD93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 answer: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s: graphical understanding of slope and interce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371E2F-67E7-4BE1-A18C-D75FFA94F2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 answers: B, C,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s: interpretation of slope and interce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7A9771-D471-4172-9362-A7F6F8F685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 answer: A and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s: tabular test for linear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 answers: for 1)  A, B, and C and for 2) B and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s: proportionality test and linearity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3F4A9E-5ACE-4B2E-9F8E-AC79CCBAD8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C50A4B-CFC1-45CF-AA11-219A694759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 answer: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s: interpretation of slope and interce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DFDE-F45B-438B-A1E3-4C9DD45A9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7268-C6B9-4514-9B2E-6C696D66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5E6D-07B7-4233-B959-2446A5A27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3C76-92D8-48C6-8460-034B10F0A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A899B-A66D-4D3D-9710-D636AFD2A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08FE-233C-49C2-B409-ED3D21BA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986A-C6BA-4DD9-A356-5197D78C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61ED8-7C2F-4E28-A2FC-97B33CC7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3CF6-F709-463F-9FC4-CE0ABE58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200E-8E10-4F27-B578-C4F10D4C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DBCF-F686-46FD-85AF-D547949B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4533-1635-44D2-9112-389E1CEC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E25D-DD77-4C44-8ED8-98FAF33C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FF0B-F77B-4091-BCCC-D9EB0F89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67B0-5346-42B7-8ADF-18805301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E72E-27CF-4512-BFE2-D7D7B3B77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3883-4CD2-44E4-B8F2-7867EC56E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5BF52-F7C5-473C-AB5C-6E3C16B7B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C68D9-BF27-4FF3-987C-4DE86DD0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0BC09-58A4-4E9E-BA65-56BED434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775BF-376B-4AC8-ABF0-F57DB267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694C4-F1D8-4223-9E70-AA4D998D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B782-F361-4402-B9AD-0531E06E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FDFCF-C7EE-4D1C-BA74-15274908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C6325-5669-4086-9653-6E9F3A30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92837-ADB7-48DA-925C-DF17ECC6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97889-1C6C-48A9-A4D4-38E3281F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B0329-AA99-449B-8705-55AD031F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EE10B-FC94-487F-9CED-55CF84F41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28133-3602-4220-B716-E39557225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B3297-9C8F-45D6-BEC1-01A4110A1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A3DE0-1025-46B8-A60C-6C33277A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1B884-DAC1-4B5F-A60D-8075E0C1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84DC-3567-455E-A557-2CB2F88B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39C33-2B67-4A9B-AEC1-A049D5C2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B88A1-952E-45C8-BB96-3AA01B93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F28C8-E10E-475B-A287-99F0EBA0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C539C-49A8-4DD7-9FE5-9AC82498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E27EA-60F4-4C5B-B0CA-95097691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F3C75-EF1F-46A6-95A2-8FBADCAF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2BC91-2CB6-4544-9FA3-24297182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8EF28-60AB-48C5-805E-1B8D116DA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954AE-DAB2-4F23-B0BB-4992A92AD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B82A-A307-45A9-A406-91E538F1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E6FB-D8EB-4964-8DCE-019BB9D9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8B38-B79D-4B2D-B93E-B5703558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32C0-90BF-42D8-AC3E-576E4317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41E4-A458-472F-AE97-F0F134D8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0EA2C3-00EB-4362-A3B1-F3D4595F46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190F01-BB58-4F0B-9520-0834DBDBA6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C0092B-162F-440A-B7EF-9487FE5F06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E9475A-F245-42C3-BFDF-3C00F2198E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7128E0-4E65-43AB-9E8D-DFE1F6E0BF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jogger runs away from campus at a steady rate, stops to talk to some friends, runs away from campus for a little longer, and then returns to campus.  Which graph below could show the jogger’s distance as a function of tim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304920" y="3657600"/>
            <a:ext cx="2185920" cy="2185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4572000" y="3657600"/>
            <a:ext cx="2187720" cy="2187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3"/>
          <a:stretch/>
        </p:blipFill>
        <p:spPr>
          <a:xfrm>
            <a:off x="2438280" y="350532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"/>
          <p:cNvPicPr/>
          <p:nvPr/>
        </p:nvPicPr>
        <p:blipFill>
          <a:blip r:embed="rId4"/>
          <a:stretch/>
        </p:blipFill>
        <p:spPr>
          <a:xfrm>
            <a:off x="6591240" y="3352680"/>
            <a:ext cx="25527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 two linear equations, how many solutions can the system h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Exactly one solution or no 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Exactly one solution or infinitely many sol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Exactly one solution, no solutions, or infinitely many sol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Any number of sol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graph on the right shows three different tax systems as a function of income.  Which represents a progressive tax (that is, where richer people pay a higher percentage of their income on taxes)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7" descr="[image]"/>
          <p:cNvPicPr/>
          <p:nvPr/>
        </p:nvPicPr>
        <p:blipFill>
          <a:blip r:embed="rId1"/>
          <a:stretch/>
        </p:blipFill>
        <p:spPr>
          <a:xfrm>
            <a:off x="5181480" y="15238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statement below is correc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(-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-3(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-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(-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-(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-2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 (-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(-3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-2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your logarithmic scale of time, where does 500 years ago f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closer to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 than to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closer to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 than to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 exactly between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5791320" y="2286000"/>
            <a:ext cx="2819160" cy="25146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6"/>
          <p:cNvSpPr/>
          <p:nvPr/>
        </p:nvSpPr>
        <p:spPr>
          <a:xfrm>
            <a:off x="457200" y="1905120"/>
            <a:ext cx="44956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is tru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f(x) is exponential and g(x) is 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f(x) is neither linear or expon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: g(x) is neither linear or expon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: f(x) is linear and g(x) is expon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opulation of bacteria is described by y = 200(2.7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ere t is measured in days.  Which statement is correc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: The population is growing at 75% per 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: The population is growing at 275% per 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: The population is growing at 175% per ho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all functions below are graphed, which graph is the blue graph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 = 200(.5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 = 200(1.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 = 100(1.5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 = 200(.2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tretch/>
        </p:blipFill>
        <p:spPr>
          <a:xfrm>
            <a:off x="4191120" y="17146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of the below functions has a half life of 8 days?  (In all functions, t measures days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y = 100(1/8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y = 25(8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 y = 30(1/2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/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 y = 8(1/2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8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ill the half-life be for the equation  y = 50(.5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4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here t is measured in day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25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0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e of the ab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know that log a is about .301, which of the following statements is tru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log(100a) is about 2.3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log(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is about .0906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 Both A and B are tr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 Neither A nor B are tr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se the average rate of change of jobs in Caddo Parish with respect to time is 10,000 jobs/year for the period from 1995 to 2005. Which statement is most accurat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year, the number of jobs increased by 10,00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number of jobs never decrea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A) and 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ither A) nor 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se you know that ln(a) equals .25.  What can you say about ln(a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It equals 4.2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It equals .25 +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 It equals .2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ncept Test: Which slope is larges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0" name="Object 2"/>
          <p:cNvGraphicFramePr/>
          <p:nvPr/>
        </p:nvGraphicFramePr>
        <p:xfrm>
          <a:off x="533520" y="1447920"/>
          <a:ext cx="4267080" cy="252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4267080" cy="25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3"/>
          <p:cNvGraphicFramePr/>
          <p:nvPr/>
        </p:nvGraphicFramePr>
        <p:xfrm>
          <a:off x="5257800" y="685800"/>
          <a:ext cx="3276720" cy="5791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685800"/>
                    <a:ext cx="32767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4"/>
          <p:cNvGraphicFramePr/>
          <p:nvPr/>
        </p:nvGraphicFramePr>
        <p:xfrm>
          <a:off x="1523880" y="4114800"/>
          <a:ext cx="3124440" cy="20368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8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4114800"/>
                    <a:ext cx="3124440" cy="20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n the graph on the right of y = f(x), which of the below numbers is most positiv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: f(2) – f(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: the average rate of change of f from x = 0 to x =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: the average rate of change from x = -2 to x =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5181480" y="1905120"/>
            <a:ext cx="35053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four linear functions below are graphed on the right.  Which one is the red lin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: y = 4 + 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: y = 4 – 2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: y = 2 – 2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: y = 2 – 4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46479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pre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ee cars have the following functions that give the total cost of ownership as a function of the number of miles travele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r A:  y = 15,000 + .14 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r B:  y = 28,000 + .20 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r C:  y = 22,000 + .09 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car was most expensive to purcha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car is the cheapest to operate per mi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60,000 miles, which car has had the lowest cost of ownershi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Multiple answers possible)  Which of the below tables shows a linear func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6" name="Object 2"/>
          <p:cNvGraphicFramePr/>
          <p:nvPr/>
        </p:nvGraphicFramePr>
        <p:xfrm>
          <a:off x="3505320" y="2916360"/>
          <a:ext cx="2286000" cy="171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916360"/>
                    <a:ext cx="2286000" cy="1716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98" name="Object 3"/>
          <p:cNvGraphicFramePr/>
          <p:nvPr/>
        </p:nvGraphicFramePr>
        <p:xfrm>
          <a:off x="380880" y="2819520"/>
          <a:ext cx="2286000" cy="1909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819520"/>
                    <a:ext cx="2286000" cy="1909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0" name="Object 4"/>
          <p:cNvGraphicFramePr/>
          <p:nvPr/>
        </p:nvGraphicFramePr>
        <p:xfrm>
          <a:off x="6400800" y="2819520"/>
          <a:ext cx="2344680" cy="1958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2819520"/>
                    <a:ext cx="2344680" cy="1958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which functions is y not directly proportional to x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which functions is y not a linear function of x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4" name="Object 2"/>
          <p:cNvGraphicFramePr/>
          <p:nvPr/>
        </p:nvGraphicFramePr>
        <p:xfrm>
          <a:off x="457200" y="3809880"/>
          <a:ext cx="2276640" cy="206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9880"/>
                    <a:ext cx="2276640" cy="2060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6" name="Object 3"/>
          <p:cNvGraphicFramePr/>
          <p:nvPr/>
        </p:nvGraphicFramePr>
        <p:xfrm>
          <a:off x="3200400" y="3809880"/>
          <a:ext cx="2230560" cy="2022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3809880"/>
                    <a:ext cx="2230560" cy="202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8" name="Object 4"/>
          <p:cNvGraphicFramePr/>
          <p:nvPr/>
        </p:nvGraphicFramePr>
        <p:xfrm>
          <a:off x="5943600" y="3809880"/>
          <a:ext cx="2257560" cy="20433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3809880"/>
                    <a:ext cx="2257560" cy="2043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have been offered three different jobs: job R has a base salary of $55,000 with annual raises of $2000, job S has a base salary of $45,000 with annual raises of $3200, and job T has a base salary of $48,000 with annual raises of $2000.  Assuming you will be working at this job f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an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ears, how should you rank the jobs according to the income you will receiv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) R, S, 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) S, R, 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) R, T, 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) None of the abo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6:21:45Z</dcterms:created>
  <dc:creator>Mark Schlatter</dc:creator>
  <dc:description/>
  <dc:language>en-US</dc:language>
  <cp:lastModifiedBy>Bill Moore</cp:lastModifiedBy>
  <dcterms:modified xsi:type="dcterms:W3CDTF">2011-03-07T18:45:23Z</dcterms:modified>
  <cp:revision>3</cp:revision>
  <dc:subject/>
  <dc:title>Concept Test</dc:title>
</cp:coreProperties>
</file>